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5D5-0037-4460-8EB9-D5D2B417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60A8-1D4A-4E06-8656-AA9FF5DB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8B3-39FF-41F3-B260-4CD79113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61C-08B9-44F6-888B-3046F481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5F8-BC09-4012-8FB3-078E646C1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C404-6F17-4241-85ED-3FCA174D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09AC-BC21-457E-A63B-02203076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71FC2-459D-4711-AF6F-5BC5CA7D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DB46A-D2E1-47BA-83C4-86DBD392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449F-8218-484E-8085-8F76A364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8363-9531-4554-8F9C-A993A734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6D2A-95E8-4F5E-988D-15EC1B2F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0C50-FB7F-4A41-8580-F95E84BB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0946F-BB92-4185-836C-0C25CDA7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CEAE-5967-44FF-A897-AE5D443C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A6D2-652F-47DB-B438-30798FC4A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A2906-4A22-4B81-B096-73FBE384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4A90-0D7F-4E62-A67C-95917011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67D9-F2FD-451C-8711-6785229D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E0B4-6D6A-4F1D-AFBA-90DB1E28F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422-28FA-43AF-9757-395D0B6B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BB95-391B-4B83-A2BD-CF1AE19A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D343-CB0B-41B6-84CC-B5B92E10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2CB-0578-44C2-B033-415DBC62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559C-99D5-4EFE-89EA-D1089F2D69B2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EA0C-0A3E-4D3D-AC45-CBEBB74FCD7B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it 3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Africa South of the Sahara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r. O’C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Nigeria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1719360"/>
            <a:ext cx="822960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and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avanna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angrov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Harmatta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4857840" cy="285732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35719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conomics</a:t>
            </a: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OIL is 90% of incom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ostly Farmers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ubsistence Farmer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Cacao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782960" y="1676520"/>
            <a:ext cx="4361040" cy="34542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286000" y="3314880"/>
            <a:ext cx="238140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13.8 million – most in Afric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00 ethnic group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50% Muslim 40% Christian 10% Loca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ompound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80880" y="4114800"/>
            <a:ext cx="552456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if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Lagos – port cit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Abuja* - planned cit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2857680" cy="4410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istory/Gov’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ok People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1400’s Slave trade / Colonialis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British early 1900’s to 1960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Ethnic Divisio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Ibo Civil War - 2 million dead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till Fighting!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553080" y="1905120"/>
            <a:ext cx="2324160" cy="30477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200400" y="434340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9T13:17:48Z</dcterms:created>
  <dc:creator> John Doe</dc:creator>
  <dc:description/>
  <dc:language>en-US</dc:language>
  <cp:lastModifiedBy> John Doe</cp:lastModifiedBy>
  <dcterms:modified xsi:type="dcterms:W3CDTF">2009-09-09T13:43:55Z</dcterms:modified>
  <cp:revision>1</cp:revision>
  <dc:subject/>
  <dc:title>Unit 3  Africa South of the Sahara</dc:title>
</cp:coreProperties>
</file>